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18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436834-B3C3-4CC3-AA28-C708D0E48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2BAC78-291A-448C-9D15-B0901E3A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92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82E25E-16FF-440E-92B5-3056EB5DFE9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7D1394-2C4E-4019-8174-9275924DB0F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2E0944-2306-40A9-A9F5-8E5D989C2DB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8A769F-9303-422E-9E62-30D5DE54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EA0-0D81-4F67-B4E8-7E7C624E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064-AC76-4096-A686-1FEB6E08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16F-E7C0-451A-8D63-2DC27CAD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BB7E-1CE7-4EA2-957C-2A243957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5E8-E153-49F7-AC93-AD98CA75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B277-1D3A-44AF-B3E8-5C14FF02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0E0-05B7-4506-8DD2-CCBA9597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04E-8B40-40AD-9410-EC7C9864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96EF-BA25-4EE8-B058-2DE5866C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B3F0-5E50-4AD3-A133-8D85A6AE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0887-1D52-4ADB-86E2-397E9E3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3C9B-D896-4640-A18B-625CC33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1955-C3E9-4D9D-A224-135B7B5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6330-72A7-456A-ACE6-82884418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CD88-59E5-43DB-85CC-B68FC0EA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DF0B-1C24-4FDB-A005-1153E04A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DED3-EB7B-445B-901A-0DB32A14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851-C3AB-4E27-8B3B-2B0F8409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E262-070B-4267-B25C-395C96E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7C99-C246-400A-9B36-05396E64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8998-5397-4F15-BE59-64861CF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DB35-EF3A-4188-8040-EDFB9DB6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39E3-D249-4AAB-BC7E-36362B5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D2B8-3A21-45FE-98BD-274A241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DA63-A82F-45C5-850C-7B8BBD8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7185-46F1-4F69-BB8C-D7242292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8220-FEDA-4AF5-B139-3D9A415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D19C-CD5C-497B-B50E-8F837CFA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97E-13DD-47CA-A1AF-E5FF5234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3DA1-1AAD-4FCB-84E1-74EDF398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BF97-E50D-471A-B722-6C5579F8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CA3D-A887-4B30-9CF9-2A7D0E0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97E3-BB87-43FF-88AB-4F417B8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3F49-C096-47FC-8399-7F6E421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56D3-748D-4317-A979-1D8B9C15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751C-EA55-4C54-B658-0723A637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6D26-D75F-4895-8A0C-A23AF67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A54E-B6EB-49AC-9552-79F6D99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7862-562E-4A1A-8541-BF30A07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FD6-865C-4A55-9661-FE4BC44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C9E4-12B6-44C2-BDEC-C18E5952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57D4-046F-4759-AD4A-764ED510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C2D6-B104-4CE6-93B3-917748ED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47F-1ABA-4185-B13C-73C9A51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9811-95D7-477A-A706-887E8CC0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AD3BA-1DE1-4F21-A5E6-8787749B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4EDE-2CCD-4CD2-A11E-C3B60B2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8E15-B326-4CCF-AC62-4BC03BC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6781-0F31-4E80-BD94-A9442EE9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CC2-843D-4E5D-917B-9C72F21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DF18-53D1-42A7-B7F8-93A796BD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6468-1EB4-4AA9-9FE0-A2F8A078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869E-6B78-4346-AAA8-079397C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F2F8-1D1E-43C7-BE7A-AB0FE76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AE60-11C0-4555-9BC5-635D7EC2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EE11-CBA1-47E5-BF3D-0470D0C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85DC-6E3A-42E6-81F5-53EAC9AF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D2E-9735-4717-902E-4BE6E47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5DF-041C-41DF-9D20-CD54FA02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C08-E838-4667-B9F7-C1264D86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B3AD-56B9-4AA1-AAE7-727DCF6264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9812-0787-43AE-A395-AD9E6380FD7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B9D4-0CDA-487A-B796-4CC9DCA4FE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9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3B4-FD5D-4BDB-8C24-25CD696C4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3517-C036-4F03-962C-44E8F19ADC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78152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13"/>
          <p:cNvSpPr/>
          <p:nvPr/>
        </p:nvSpPr>
        <p:spPr>
          <a:xfrm>
            <a:off x="57240" y="1380960"/>
            <a:ext cx="534348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IPA funding for floods recovery in Bosnia and Herzegovina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nor Coordination 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rajevo, 16 Octo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9"/>
          <p:cNvSpPr/>
          <p:nvPr/>
        </p:nvSpPr>
        <p:spPr>
          <a:xfrm>
            <a:off x="3943440" y="5808600"/>
            <a:ext cx="5200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Delegation of the European Union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                                                           </a:t>
            </a: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to Bosnia and Herzegovi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5" descr=""/>
          <p:cNvPicPr/>
          <p:nvPr/>
        </p:nvPicPr>
        <p:blipFill>
          <a:blip r:embed="rId2"/>
          <a:stretch/>
        </p:blipFill>
        <p:spPr>
          <a:xfrm>
            <a:off x="5556240" y="6100920"/>
            <a:ext cx="987480" cy="66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457200" y="2133720"/>
            <a:ext cx="822960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Donors Conference of 16 July: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 85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M € pledged for Bosnia and Herzegov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Assistance provided in two pack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00"/>
              </a:spcBef>
              <a:buClr>
                <a:srgbClr val="10016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EU Flood Recovery Programme (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42.24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): on-going since 15 August 2014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00"/>
              </a:spcBef>
              <a:buClr>
                <a:srgbClr val="10016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IPA 2014 Special Measures (appr.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43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): plan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Additional funding: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20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</a:t>
            </a:r>
            <a:r>
              <a:rPr b="1" i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regional programme for river management jointly with Ser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Based on findings of the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Recovery Needs Assessment (RNA)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for Bosnia and Herzegov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72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U support to post-floods recover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Rectangle 3" descr=""/>
          <p:cNvPicPr/>
          <p:nvPr/>
        </p:nvPicPr>
        <p:blipFill>
          <a:blip r:embed="rId1"/>
          <a:stretch/>
        </p:blipFill>
        <p:spPr>
          <a:xfrm>
            <a:off x="165240" y="2114640"/>
            <a:ext cx="8753400" cy="5207040"/>
          </a:xfrm>
          <a:prstGeom prst="rect">
            <a:avLst/>
          </a:prstGeom>
          <a:ln w="0">
            <a:noFill/>
          </a:ln>
        </p:spPr>
      </p:pic>
      <p:grpSp>
        <p:nvGrpSpPr>
          <p:cNvPr id="775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76" name="Rectangle 2" descr=""/>
            <p:cNvPicPr/>
            <p:nvPr/>
          </p:nvPicPr>
          <p:blipFill>
            <a:blip r:embed="rId2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1. EU Flood Recovery Program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6" descr=""/>
          <p:cNvPicPr/>
          <p:nvPr/>
        </p:nvPicPr>
        <p:blipFill>
          <a:blip r:embed="rId3"/>
          <a:stretch/>
        </p:blipFill>
        <p:spPr>
          <a:xfrm>
            <a:off x="196920" y="3506760"/>
            <a:ext cx="2598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196920" y="2133720"/>
            <a:ext cx="86868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Ready for implementation in 2015 (appr. 63 million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 IPA fundi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13.5 M € from IPA National Programme 2014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27.5 M € from the IPA Regional Programm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1,75 M € from IPA National saving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Additional 20 M € from IPA Regional for joint regional projects for flood protection and river management with Serb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Prioritie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trengthening civil protection capacities for emergency 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upporting civil society efforts for social and economic recovery in flood affected are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Flood protection and river management urgent measures in BiH and regional measures jointly with Serb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MEs and local development in flood-affected are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Additional housing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Rehabilitation of judicial infrastructu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81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2. IPA 2014 Special Measure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76244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13"/>
          <p:cNvSpPr/>
          <p:nvPr/>
        </p:nvSpPr>
        <p:spPr>
          <a:xfrm>
            <a:off x="28440" y="1638360"/>
            <a:ext cx="516276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Thank you!</a:t>
            </a:r>
            <a:br>
              <a:rPr sz="25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lvin Asi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d of Co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 Delegation to Bosnia and Herzegovin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3943440" y="5808600"/>
            <a:ext cx="5200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Delegation of the European Union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                                                           </a:t>
            </a: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to Bosnia and Herzegovi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7" descr=""/>
          <p:cNvPicPr/>
          <p:nvPr/>
        </p:nvPicPr>
        <p:blipFill>
          <a:blip r:embed="rId2"/>
          <a:stretch/>
        </p:blipFill>
        <p:spPr>
          <a:xfrm>
            <a:off x="5556240" y="6067440"/>
            <a:ext cx="987480" cy="6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operater</cp:lastModifiedBy>
  <dcterms:modified xsi:type="dcterms:W3CDTF">2014-10-15T11:27:05Z</dcterms:modified>
  <cp:revision>899</cp:revision>
  <dc:subject/>
  <dc:title>Folie 1</dc:title>
</cp:coreProperties>
</file>